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A68-C823-4A50-BA63-70A93770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A6B-2F31-48D3-B6F3-FB4D63A9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E58-FC06-4AD4-9AFA-53C2BC81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CA1-A592-4E1C-8C49-BB85EC18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0F2-A912-4752-B8B3-F7E44DBF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0BC-D9D1-446A-BD0B-D82CA854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733-ABAA-43EF-9903-D0FB06D7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097-324D-4467-A90B-F37C8CD4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9FF-865F-4C2D-BF72-57B84ED1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D65-38FE-4892-9618-E099C6AD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BCE-E2D4-48DD-86AC-6F5DDE90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828-E13E-4EA4-BF6B-200AE355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EAC6-B7A6-4793-B963-B914C9627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Subject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533520" y="12952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lly played on my tea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3520" y="22860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095880" y="22860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33520" y="32004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S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l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yed on my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lly and Bess painted a pictu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867280" y="259092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ly and B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KELLY AND B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elly and B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inted a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33520" y="12193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 mother and her friend had a par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33520" y="228600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867280" y="2286000"/>
            <a:ext cx="2895840" cy="181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ther and her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33520" y="3886200"/>
            <a:ext cx="8229600" cy="18406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MY MOTHER AND HER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y mother and her frie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d a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OMPLETE THE INDEPENDENT PRACTICE HANDOU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ittens pur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274176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095880" y="274176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tt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KIT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itte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ur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533520" y="12952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m and Dad went to the sto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3520" y="220968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095880" y="2209680"/>
            <a:ext cx="2667240" cy="181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and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33520" y="36576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MOM AND 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m and D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ent to the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33520" y="126540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obby and Jimmy played bal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3520" y="217980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2179800"/>
            <a:ext cx="2895840" cy="181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by and Jim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33520" y="368784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BOBBY AND JIM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bby and Jimm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yed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lowers bloo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3520" y="243828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095880" y="243828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FL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low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l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m likes it when I get all A’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867280" y="259092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M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kes it when I get all A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e went swimm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095880" y="27432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ent swim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UBJECT of a sent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838080" y="2378160"/>
            <a:ext cx="7391520" cy="25822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the naming part.  It tells you WHO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33520" y="1371600"/>
            <a:ext cx="8229600" cy="1219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 students do our homework every nigh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867280" y="274320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33520" y="3429000"/>
            <a:ext cx="8229600" cy="33238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MY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y stud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 their homework every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33520" y="12952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ula, Sue, and Pat live in Bost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3520" y="220968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867280" y="2209680"/>
            <a:ext cx="2895840" cy="181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a, Sue, and 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PAULA, SUE, AND P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ula, Sue, and P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ve in Bos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rla made a homeru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33520" y="22860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5880" y="22860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33520" y="312408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CA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l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de a homer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cle Joe plays ball with Sam and m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867280" y="259092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le J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UNCLE J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cle Jo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ys ball with Sam an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ranny gave Ginny a hu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33520" y="25146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095880" y="25146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FRA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ann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ave Ginny a h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990720" y="1219320"/>
            <a:ext cx="7391160" cy="25822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the naming part.  It tells you WHO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990720" y="4024440"/>
            <a:ext cx="7391160" cy="20739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read the sentence, ask yourself “WHO is this sentence about?”.  The person or thing the sentence is about is 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find the subj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838080" y="1066680"/>
            <a:ext cx="7391520" cy="270432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read the sentence, ask yourself “WHO is this sentence about?”.  The person or thing the sentence is about is 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838080" y="3902040"/>
            <a:ext cx="7391520" cy="27043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for the action word.  Usually, the words in front of the action words in a telling sentence are 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g chased the mail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33520" y="2514600"/>
            <a:ext cx="822960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THE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do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ased the mail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’s dad drives the tru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25146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95880" y="25146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’s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L’S 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’s d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rives the tr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 makes a big splas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095880" y="27432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3520" y="350532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kes a big spla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rogs croa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095880" y="25909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FRO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og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ro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e grabs his th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095880" y="25909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33520" y="358128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rabs his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other and I did our homewor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3520" y="266688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095880" y="266688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 and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33520" y="350532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BROTHER AND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other and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id our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18:52:58Z</dcterms:created>
  <dc:creator>Kristen M. Clasen</dc:creator>
  <dc:description/>
  <dc:language>en-US</dc:language>
  <cp:lastModifiedBy>Laura McDow</cp:lastModifiedBy>
  <dcterms:modified xsi:type="dcterms:W3CDTF">2010-07-29T16:32:39Z</dcterms:modified>
  <cp:revision>12</cp:revision>
  <dc:subject/>
  <dc:title>Complete and Incomplete Sentences</dc:title>
</cp:coreProperties>
</file>